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7.png" ContentType="image/png"/>
  <Override PartName="/ppt/media/image12.png" ContentType="image/png"/>
  <Override PartName="/ppt/media/image35.wmf" ContentType="image/x-wmf"/>
  <Override PartName="/ppt/media/image1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AD4D-0B6D-441D-875F-5C888E5F3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6CB6-76C8-4156-B003-59D9FED9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FC22-E14E-4D19-8620-80842055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11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79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11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9157-F089-44D0-97F6-73982CF4E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B927-C151-4963-A6AF-E1712CC97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3F5A-A4CC-4DF9-B2C4-40754E4A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86B2-AB77-4F40-9D54-5977B6F6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EF26-D6F7-4A72-9841-6CA542A6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83B6-04DE-44E4-9A3B-2273485C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920" y="380880"/>
            <a:ext cx="723888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04EB-E529-4A7C-8AB8-97C39CFE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DA82-3661-4797-A9BD-DAD3F3F5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A83B-9555-46D9-9263-1DDCF236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6F94-ACF5-4B2D-8ADB-29F15248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B77D-4AD5-4BA6-821A-ED211C7F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498E-7A36-47F5-BBF3-285D0126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1B8D-7EBE-44B8-A1B9-74D90A1CD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11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979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11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00EC-AC68-4228-BB1F-6AEF34295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84E6A-B1E2-4010-A706-92BB3D71D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CEBCE-0A6E-4B48-863E-1D5C4454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623DA-385E-4F82-8F1B-F6E12547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7AFC3-F721-4D08-843C-4552422E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0AE26-3E27-48EA-A67C-0499FA57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C937-747C-48FB-9EE0-05403C48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447920" y="380880"/>
            <a:ext cx="723888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B5A21-E1C3-4C3F-90A3-9E5F76D3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D5644-A84B-48D1-8A84-0F891660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A64D6-2020-4C0E-8FB6-33947129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DF079-DEAF-4454-834A-4D282700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E5C48-7BF8-41D6-9D43-E978AC55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E99BD-442C-41EC-A64D-B1495C410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911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90512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1979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911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2AAB5-1A48-4BE7-A425-586832D1E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315DD-D917-49B7-AFA6-3C577400A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53557-A90A-4B26-9C53-84CD71E1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777FF-2638-47F5-A845-425ECA30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8C57-3B83-4429-AB15-BF43A0D8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DBF4D-69DC-461A-8693-839710E4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FC08C-4B11-49AD-A01B-32A2D630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447920" y="380880"/>
            <a:ext cx="723888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61F04-007E-4756-AA96-75EC6C2F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CA5F5-AD73-48F8-B6BA-41742880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9CCFE-D522-432A-902C-1D14624F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C48DD-7EF2-4B6C-8711-F6C63FFA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D03C0-CB50-42AB-BF37-689C6BFB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0D758-45B0-45AF-9667-09FF8E89A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4911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90512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1979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4911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64749-30E5-4A6B-BC44-30632ECD2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9672D-CD0D-4E63-B728-E4069110C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3E39-0E39-4668-907C-5BF3114E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D2FAA-A714-4906-B7F5-050DC402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35F8F-D287-42D6-A11F-77A8C962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67EAA-03FC-4824-9DF1-32C13883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624CD-C36D-4DDC-A4F2-80E4BD84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1447920" y="380880"/>
            <a:ext cx="723888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8F2F9-9555-4C00-BE71-AD534D1A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91E26-9288-44CD-8C20-6DDAB002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FE7D9-8900-4B29-B35E-83DE5341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26BDB-240E-4C83-AF68-26483DE8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21C84-CE23-4B67-A6A8-F60570F7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B4043-9125-4196-98A6-5F5C1A018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920" y="380880"/>
            <a:ext cx="723888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2157-09BA-4514-94B3-5FC66457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4911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190512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1979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4911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53B2A-40A0-4BD0-80E3-D79473A02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16EB-2498-482C-B8FF-EA4B20F2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F8F3-058F-437F-B8A9-E2E01965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D228-BE74-4179-89C2-1C1A8E98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B069-B731-470B-A8C5-351F44A87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95480" y="1752480"/>
            <a:ext cx="56390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E4DD-578A-44E1-A003-2F65B4FC0C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31AF-AEE8-4480-8EC3-6D2DDFE38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1DF3-A243-4BC6-AC7F-312EB5CBDE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7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7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7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sldNum" idx="1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FF8D-3DE0-4AE2-8574-F2BDA777A8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oastal.edu/library/presentations/mills2.html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wl.english.purdue.edu/handouts/research/index.html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sc.edu/htmlpages/writerold/menus.htm#point.html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dianahacker.com/writersref/flash/rs_menu.asp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sc.edu/htmlpages/writerold/menud.htm#shape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sc.edu/htmlpages/writerold/ex4.htm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library.ucla.edu/libraries/college/help/critical/discipline.htm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owl.english.purdue.edu/workshops/pp/Internet.ppt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dianahacker.com/writersref/flash/gm_flash/hackgm43.asp?session=1267331357415101&amp;name=jim&amp;group=" TargetMode="External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owl.english.purdue.edu/handouts/research/r_paraphr.html" TargetMode="Externa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owl.english.purdue.edu/handouts/research/r_paraphrEX1.html" TargetMode="External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easybib.com/" TargetMode="Externa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members.tripod.com/~rtiess/webcite2.htm" TargetMode="External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teach-nology.com/web_tools/rubrics/research/" TargetMode="External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landmark-project.com/classweb/tools/clonable.php?rbrc_id=86205&amp;rubric_mode=search" TargetMode="External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nformation.tjhsst.edu/overseas/ppt/copyright.ppt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unc.edu/~unclng/public-d.htm" TargetMode="External"/><Relationship Id="rId2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library.gmu.edu/copyright/studentcopyright.pp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ndiana.edu/~istd/overview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opyrightwebsite.com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indiana.edu/~istd/practice.html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95480" y="1752480"/>
            <a:ext cx="56390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chnologizing Your Researc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504960" y="3429000"/>
            <a:ext cx="4647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yce P. Johnston, NB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bourn Hig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e Mason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eck student knowledge --Middle gra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85708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ware of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erm Paper M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905120" y="1600200"/>
            <a:ext cx="6781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33720" y="2971440"/>
            <a:ext cx="5410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 Black"/>
              </a:rPr>
              <a:t>Preplanning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6226200" y="0"/>
            <a:ext cx="2917800" cy="33465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733920" y="3809880"/>
            <a:ext cx="4572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earch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ing a th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Orient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 Everyone to the Pro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33800" cy="1467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457200" y="3019320"/>
            <a:ext cx="822960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 a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Research Ques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2840" y="2895480"/>
            <a:ext cx="910116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Practice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, practice, pract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2543040" y="2017800"/>
            <a:ext cx="439128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 a strong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the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838080" y="23623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Practice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 some mo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2666880"/>
            <a:ext cx="723924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 Black"/>
              </a:rPr>
              <a:t>Researching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819160" y="3809880"/>
            <a:ext cx="64767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net 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ronic notec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rect quo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aphr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6087960" y="0"/>
            <a:ext cx="30560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 Internet resources wisely— Middle Scho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838224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723888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 Black"/>
              </a:rPr>
              <a:t>A Brief Overview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362320" y="20574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ping Young Mi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earc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cumen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Internet resources wisely –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igher gra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09480" y="2209680"/>
            <a:ext cx="8345520" cy="44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inforce with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PowerPoi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914400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Down Information on Electronic Noteca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have to, use pap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28600" y="2017800"/>
            <a:ext cx="872640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view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quotation mark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1371600" y="2666880"/>
            <a:ext cx="7772400" cy="38102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4343400" y="1981080"/>
            <a:ext cx="44766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86025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…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e with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paraphra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533520" y="2209680"/>
            <a:ext cx="838188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vide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reinforc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762120" y="213372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1371600" y="6400800"/>
            <a:ext cx="777240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33720" y="2971440"/>
            <a:ext cx="5410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 Black"/>
              </a:rPr>
              <a:t>Documenting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226200" y="0"/>
            <a:ext cx="2917800" cy="33465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3352680" y="3657600"/>
            <a:ext cx="54864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rstanding research paper format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od 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itation guid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nderstanding MLA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849816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e a bibliography </a:t>
            </a:r>
            <a:br>
              <a:rPr sz="4400"/>
            </a:b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step by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533520" y="22096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437920" y="2742840"/>
            <a:ext cx="5410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 Black"/>
              </a:rPr>
              <a:t>Shaping Young Mind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226200" y="0"/>
            <a:ext cx="2917800" cy="33465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124080" y="4038480"/>
            <a:ext cx="51055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pyright Aware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giarism Tr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rm Paper M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r use universal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fiel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2286000" y="2209680"/>
            <a:ext cx="563868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r source specific fiel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133720" y="2971440"/>
            <a:ext cx="5410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 Black"/>
              </a:rPr>
              <a:t>Evaluating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6226200" y="0"/>
            <a:ext cx="2917800" cy="33465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3733920" y="3809880"/>
            <a:ext cx="457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al 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ep Track of Progr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69608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al product --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Element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2438280" y="1600200"/>
            <a:ext cx="380052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ddle scho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8955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igh school 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and abo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23520" y="990360"/>
            <a:ext cx="723924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---</a:t>
            </a: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and finally,</a:t>
            </a:r>
            <a:r>
              <a:rPr b="0" i="1" lang="en-US" sz="5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5400"/>
            </a:br>
            <a:r>
              <a:rPr b="0" i="1" lang="en-US" sz="5400" spc="-1" strike="noStrike">
                <a:solidFill>
                  <a:srgbClr val="000000"/>
                </a:solidFill>
                <a:latin typeface="Arial Black"/>
              </a:rPr>
              <a:t>Savor Success!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3124080" y="2666880"/>
            <a:ext cx="351468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contact me if I can help you in any w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752120" y="2209320"/>
            <a:ext cx="3505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yce Johns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lish D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bourn Hig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ssas, 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03.257.8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johnston@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ssas.k12.va.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334120" y="2209320"/>
            <a:ext cx="3581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yce Johns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lish D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e Mason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fax, 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03.993.11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johnsto@gmu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Intellectual property 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is the key concep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990720" y="22860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Public Domain 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is an important subs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Definition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  A public domain work is a creative work that is not protected by copyright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ich may be freely used by everyone.  The reasons that the work are not protected includ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1) the term of copyright for the work has expired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2) the author failed to satisfy statuto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rmalities to perfect the copyright 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3) the work is a work of the U.S. Government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hough schools tend to focus on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Copyrig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447920" y="2017800"/>
            <a:ext cx="6410160" cy="47275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143000" y="228600"/>
            <a:ext cx="77929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hough schools tend to focus on Copyr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ep Training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Si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2579760" y="2155680"/>
            <a:ext cx="474012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 it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Fu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762120" y="2133720"/>
            <a:ext cx="8001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eck Student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Knowledge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 – higher gra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1905120" y="1752480"/>
            <a:ext cx="59436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5T20:23:09Z</dcterms:created>
  <dc:creator>lauren</dc:creator>
  <dc:description/>
  <dc:language>en-US</dc:language>
  <cp:lastModifiedBy>lauren</cp:lastModifiedBy>
  <dcterms:modified xsi:type="dcterms:W3CDTF">2006-03-12T03:44:12Z</dcterms:modified>
  <cp:revision>24</cp:revision>
  <dc:subject/>
  <dc:title>Technologizing Your Research</dc:title>
</cp:coreProperties>
</file>